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42E-5454-4FCD-96DC-CA3ED214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220-A42B-4676-8D57-FB582C89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B78-8F82-4A3E-B1DE-24BD41D4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353-5E1C-431A-94EF-18F65875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B56-225C-4721-97E7-64C6F98F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F21B0-80A4-4E88-A275-454091CA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B1C9F-FA55-4DF9-801F-1DBAAE05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F23CF-5240-4684-B789-498917B6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E99CE-5597-4741-A7F0-6AE053B1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370F9-0C53-4395-A68D-631D093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E74-283E-45F6-B9D6-B9968B1C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A099D-3CDE-4DB2-9EB8-017ADD8C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7621A-8258-42F4-85F9-46C1A9CD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53C08-6A61-4C68-B145-53D9326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A333C-EB99-4704-854B-B40CF1C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EE1AF-089D-4FC1-9AD7-CA5B1160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C2AF1-A15B-4433-9038-2D42436A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EB49C-86FE-4C8D-8145-03421690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3B2-DA6E-49E6-8CF0-4BB65D3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42B-25F7-4D3D-8C2B-917A564F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DE9-43F9-46D2-A4C9-C5BA22ED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24B-2D6F-4331-B80D-A92CC11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880-3C82-46E1-A8E0-08BE936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2B3-2D36-4947-99C6-A425CE6D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47C11-BD64-4AC4-BE2E-0B578DE559BA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A2CEC-D174-4D55-B635-0DBABB438AA2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FDA69-5B7F-48F1-BBC6-2F815FEFFF26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108B1-45F2-47CD-8EDA-F0B90CE4B0D6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86939-F2FA-4A47-B650-D6FCEB105CF8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DCF85-7A01-41C2-B9F9-52E9E1F1A31F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DE17A-7DCE-4D95-AFA1-9AA617776C1B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9BD4D-425A-4B76-A26D-BC5625D66F79}" type="datetime">
              <a:rPr b="0" lang="en-US" sz="1000" spc="-1" strike="noStrike">
                <a:solidFill>
                  <a:srgbClr val="595959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3921120"/>
            <a:ext cx="8913960" cy="704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tatement of the Hypothesi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03440" y="4626000"/>
            <a:ext cx="761040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H</a:t>
            </a: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R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lanned outdoor learning experiences, twice a week for 4 weeks, will lead to increased gains in the science learning of 25 fourth graders at P.S. X, as measured by pre and post learning experiences questionnaires.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2332080" y="6350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G_0330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66348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89120" y="2093400"/>
            <a:ext cx="76104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rticipa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wenty-five fourth graders from P.S. X, a Title 1 public schoo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(N) Teachers from P.S. X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wo Brooklyn Botanic Garden Instructor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40543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7" name="Content Placeholder 2" descr=""/>
          <p:cNvPicPr/>
          <p:nvPr/>
        </p:nvPicPr>
        <p:blipFill>
          <a:blip r:embed="rId1"/>
          <a:stretch/>
        </p:blipFill>
        <p:spPr>
          <a:xfrm>
            <a:off x="804960" y="4962600"/>
            <a:ext cx="7626240" cy="1646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IMG_0438.JPG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960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8640" y="1393560"/>
            <a:ext cx="76107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Barratt, E., Barratt, R., &amp; Scott, W. (2007, September 4). Engaging children: research issues around participation and environmental learning. </a:t>
            </a:r>
            <a:r>
              <a:rPr b="0" i="1" lang="en-US" sz="1400" spc="-1" strike="noStrike">
                <a:solidFill>
                  <a:srgbClr val="595959"/>
                </a:solidFill>
                <a:latin typeface="Century Gothic"/>
              </a:rPr>
              <a:t>Environmental Education Research,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 Vol.13(4), 529-544.  (ERIC Document) Retrieved October 2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Bourdeau, V. (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2008, September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). Inquiry goes outdoors: what can we learn at the pond? </a:t>
            </a:r>
            <a:r>
              <a:rPr b="0" i="1" lang="en-US" sz="1400" spc="-1" strike="noStrike">
                <a:solidFill>
                  <a:srgbClr val="595959"/>
                </a:solidFill>
                <a:latin typeface="Century Gothic"/>
              </a:rPr>
              <a:t>Science Scope,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 64-67.   (ERIC Document) Retrieved October 2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Broda, H. (2007).  Schoolyard enhanced learning: using the outdoors as an instructional tool k-8.  Maine:  Stenhou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Carrier, S. (2009, March 1). Environmental education in the schoolyard: learning styles and gender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Environmental Education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40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(3), 2-12. (ERIC Document Reproduction Service No. EJ830534) Retrieved September 17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Carrier, S.  (2009 Spring).  The effects of outdoor science lessons with elementary school students on preservice teachers’ self efficacy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Elementary Science Education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35-48.  (ERIC Document) Retrieved October 6</a:t>
            </a:r>
            <a:r>
              <a:rPr b="0" lang="en-US" sz="1400" spc="-1" strike="noStrike" baseline="30000">
                <a:solidFill>
                  <a:srgbClr val="474747"/>
                </a:solidFill>
                <a:latin typeface="Century Gothic"/>
              </a:rPr>
              <a:t>th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3"/>
          <p:cNvSpPr/>
          <p:nvPr/>
        </p:nvSpPr>
        <p:spPr>
          <a:xfrm>
            <a:off x="1073160" y="49320"/>
            <a:ext cx="75582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ewey, J. (1938). Experience in education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Touchstone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2, 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illon, J., Morris, M., O’Donnell, L., Reid, A., Rickinson, M., &amp; Scott, W.  (2005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Engaging and learning with the outdoors – the final report of the outdoor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classroom in a rural context action research project.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 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Slough:  National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Foundation for Education Rese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illon, J., Rickinson, M., Teamey, K., Morris, M., Young Choi, M.-Y., Sanders, D.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Benefeild, P. (2006).  The value of outdoor learning: evidence from research in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the UK and elsewhere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School Science Review, 87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107-111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yment, J.  (2005).  Green school grounds as sites for outdoor learning:  barriers and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opportunities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Internation Research in Geographical and Environmental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Education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28-45.  (ERIC Document) Retrieved October 9</a:t>
            </a:r>
            <a:r>
              <a:rPr b="0" lang="en-US" sz="1400" spc="-1" strike="noStrike" baseline="30000">
                <a:solidFill>
                  <a:srgbClr val="474747"/>
                </a:solidFill>
                <a:latin typeface="Century Gothic"/>
              </a:rPr>
              <a:t>th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2009, from ERIC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ata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Foran, A. (2005).  The experience of pedagogic intensity in outdoor education. 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experiential education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147-163. (ERIC Document) Retrieved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November 7, 2009, from ERIC data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Haines, S. (2006 Summer). Outdoor classrooms - planning makes perfect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Science and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Children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44-48. (ERIC Document) Retrieved October 2, 2009, from ERIC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data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Johnson, C. (2009).  An examination of effective practice: moving toward elimination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of achievement gaps in science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Science Teacher Education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Vol. 20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287-306.  (ERIC Document) Retrieved November 1, 2009, ERIC datab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114560" y="221760"/>
            <a:ext cx="7610400" cy="638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Lord, T. (2008, March/April). If you go down to the woods today…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College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Science Teaching,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 90-93.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 (ERIC Document) Retrieved October 2, 2009, from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Learning outside the classroom manifesto. (2006). Nottingham: Crown  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Macdonald, M., Sloan, H., Miele, E., Powell, W., Silvernail, D., Kinzler, R., Hong, J., &amp; Simon, C. (2008).   Improving urban earth science education: the TRUST model.  </a:t>
            </a:r>
            <a:r>
              <a:rPr b="0" i="1" lang="en-US" sz="1400" spc="-1" strike="noStrike">
                <a:solidFill>
                  <a:srgbClr val="595959"/>
                </a:solidFill>
                <a:latin typeface="Century Gothic"/>
              </a:rPr>
              <a:t>Journal of Geoscience Education, 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269-279.  Retrieved December 3, 2009, from Journal of Geoscience Education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Maynard, T. &amp; Waters, J. (2007 October).  Learning in the outdoor environment and missed opportunity?  </a:t>
            </a:r>
            <a:r>
              <a:rPr b="0" i="1" lang="en-US" sz="1400" spc="-1" strike="noStrike">
                <a:solidFill>
                  <a:srgbClr val="595959"/>
                </a:solidFill>
                <a:latin typeface="Century Gothic"/>
              </a:rPr>
              <a:t>Early Years,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 255-265. (ERIC Document) Retrieved October 9</a:t>
            </a:r>
            <a:r>
              <a:rPr b="0" lang="en-US" sz="1400" spc="-1" strike="noStrike" baseline="30000">
                <a:solidFill>
                  <a:srgbClr val="595959"/>
                </a:solidFill>
                <a:latin typeface="Century Gothic"/>
              </a:rPr>
              <a:t>th</a:t>
            </a: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McNally, S. (2009, May 29). Taking classroom into great outdoors; a new breed of teacher is emerging that combines classroom learning with pertinent field trip and resources focused on the environment and the active role of students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The Gazette (Montreal),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 A12. (LexisNexis Document) Retrieved October 2, 2009, from LexisNexis database. 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Potter, G., &amp; Ritz, W. (2006, October 1). Sense of wonder science.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Science and Children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44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(2), 40-42. (ERIC Document Reproduction Service No. EJ758283) Retrieved September 17, 2009, from ERIC database.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Simmons, D.  (1998).  Using natural settings for environmental education: perceived benefits and barriers.  </a:t>
            </a:r>
            <a:r>
              <a:rPr b="0" i="1" lang="en-US" sz="1400" spc="-1" strike="noStrike">
                <a:solidFill>
                  <a:srgbClr val="474747"/>
                </a:solidFill>
                <a:latin typeface="Century Gothic"/>
              </a:rPr>
              <a:t>Journal of Environmental Education, 29(3), 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23-31.  (ERIC Document) Retrieved October 11</a:t>
            </a:r>
            <a:r>
              <a:rPr b="0" lang="en-US" sz="1400" spc="-1" strike="noStrike" baseline="30000">
                <a:solidFill>
                  <a:srgbClr val="474747"/>
                </a:solidFill>
                <a:latin typeface="Century Gothic"/>
              </a:rPr>
              <a:t>th</a:t>
            </a:r>
            <a:r>
              <a:rPr b="0" lang="en-US" sz="1400" spc="-1" strike="noStrike">
                <a:solidFill>
                  <a:srgbClr val="474747"/>
                </a:solidFill>
                <a:latin typeface="Century Gothic"/>
              </a:rPr>
              <a:t>, 2009, from ERIC database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3:27:50Z</dcterms:created>
  <dc:creator>LaShaun Ellis</dc:creator>
  <dc:description/>
  <dc:language>en-US</dc:language>
  <cp:lastModifiedBy>LaShaun Ellis</cp:lastModifiedBy>
  <cp:lastPrinted>2009-12-11T03:47:53Z</cp:lastPrinted>
  <dcterms:modified xsi:type="dcterms:W3CDTF">2009-12-17T03:47:35Z</dcterms:modified>
  <cp:revision>40</cp:revision>
  <dc:subject/>
  <dc:title>Action Research Report</dc:title>
</cp:coreProperties>
</file>